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71C-1254-4C34-BCF9-4B559E9D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7DE-1B1A-4A8E-A55B-FA7BBF4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A96-BE37-4AC0-8CA2-C485FACB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B2F-1159-44F8-9ADC-D297349E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8C9-8A7B-4D2A-B698-9C4708D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339-C123-45C4-B80D-4D305EF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409-1F0D-4EDC-ADA1-8DB95EE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A82-3F28-4C95-B1EE-9A18621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59B-D887-408E-B82D-7DFC738E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4FF-C589-438E-B464-5345CE06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716-A5CE-40F8-BCDC-DAAAF13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530-09E4-4791-9BA8-B3C0C399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3072-75AC-4D8C-AA58-60E3A7EFF2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0040" y="733320"/>
            <a:ext cx="5110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2560" y="1557360"/>
            <a:ext cx="77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5224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090440"/>
            <a:ext cx="561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057320"/>
            <a:ext cx="7488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608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23516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758880"/>
            <a:ext cx="75358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9:35Z</dcterms:created>
  <dc:creator>tahir</dc:creator>
  <dc:description/>
  <dc:language>en-US</dc:language>
  <cp:lastModifiedBy>tahir</cp:lastModifiedBy>
  <dcterms:modified xsi:type="dcterms:W3CDTF">2006-02-07T12:49:49Z</dcterms:modified>
  <cp:revision>1</cp:revision>
  <dc:subject/>
  <dc:title>الشريحة 1</dc:title>
</cp:coreProperties>
</file>